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2.gif" ContentType="image/gif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7.xml" ContentType="application/vnd.openxmlformats-officedocument.presentationml.comments+xml"/>
  <Override PartName="/ppt/comments/comment2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6-08-19T17:05:21.187000000" idx="1">
    <p:pos x="5193" y="527"/>
    <p:text/>
  </p:cm>
</p:cmLst>
</file>

<file path=ppt/comments/comment26.xml><?xml version="1.0" encoding="utf-8"?>
<p:cmLst xmlns:p="http://schemas.openxmlformats.org/presentationml/2006/main">
  <p:cm authorId="0" dt="2016-08-19T17:05:30.875000000" idx="2">
    <p:pos x="1479" y="62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B64A-4870-4505-9A31-B79361CED7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C708-EEF7-4E8D-ADD4-3D508A83211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ECC-35AF-4769-A261-AB9D7B7FFF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C37-8B8D-4832-90D1-4560FE8354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60DC-A376-412C-BA5E-D8F0E8C344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48C-E705-45CE-A412-BF7CE9DB67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1EF7-8EE4-4848-B889-A1A505A102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050-1F2D-4AAD-8F4F-B0CF6CD6D1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D580-F04B-44F3-84DA-7BBED22888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55A4-9B9D-4F53-A3F3-FE86A24A6E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849F-D606-49F2-BFF9-5C4B980565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页眉占位符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6B75-DAB5-48D7-8906-DD9AE38991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4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线和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917880" y="3573360"/>
            <a:ext cx="41832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701880" y="2728800"/>
            <a:ext cx="46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线 的 认 识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2" descr="P-055"/>
          <p:cNvPicPr/>
          <p:nvPr/>
        </p:nvPicPr>
        <p:blipFill>
          <a:blip r:embed="rId1"/>
          <a:stretch/>
        </p:blipFill>
        <p:spPr>
          <a:xfrm>
            <a:off x="285840" y="1571760"/>
            <a:ext cx="1568520" cy="15364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7"/>
          <p:cNvSpPr/>
          <p:nvPr/>
        </p:nvSpPr>
        <p:spPr>
          <a:xfrm>
            <a:off x="2000160" y="1643040"/>
            <a:ext cx="47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一点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能画直线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对角圆角矩形 25"/>
          <p:cNvSpPr/>
          <p:nvPr/>
        </p:nvSpPr>
        <p:spPr>
          <a:xfrm>
            <a:off x="2214720" y="2500200"/>
            <a:ext cx="5740200" cy="2928960"/>
          </a:xfrm>
          <a:custGeom>
            <a:avLst/>
            <a:gdLst/>
            <a:ahLst/>
            <a:rect l="l" t="t" r="r" b="b"/>
            <a:pathLst>
              <a:path w="5740400" h="2928937">
                <a:moveTo>
                  <a:pt x="488166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440771"/>
                </a:lnTo>
                <a:cubicBezTo>
                  <a:pt x="5740400" y="2710378"/>
                  <a:pt x="5521841" y="2928937"/>
                  <a:pt x="5252234" y="2928937"/>
                </a:cubicBezTo>
                <a:lnTo>
                  <a:pt x="0" y="2928937"/>
                </a:lnTo>
                <a:lnTo>
                  <a:pt x="0" y="2928937"/>
                </a:lnTo>
                <a:lnTo>
                  <a:pt x="0" y="488166"/>
                </a:lnTo>
                <a:cubicBezTo>
                  <a:pt x="0" y="218559"/>
                  <a:pt x="218559" y="0"/>
                  <a:pt x="488166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椭圆 27"/>
          <p:cNvSpPr/>
          <p:nvPr/>
        </p:nvSpPr>
        <p:spPr>
          <a:xfrm>
            <a:off x="4508640" y="3733920"/>
            <a:ext cx="14256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3857760" y="3786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接连接符 29"/>
          <p:cNvSpPr/>
          <p:nvPr/>
        </p:nvSpPr>
        <p:spPr>
          <a:xfrm>
            <a:off x="3143160" y="3357720"/>
            <a:ext cx="3214800" cy="1000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32"/>
          <p:cNvSpPr/>
          <p:nvPr/>
        </p:nvSpPr>
        <p:spPr>
          <a:xfrm flipV="1">
            <a:off x="3214800" y="3632040"/>
            <a:ext cx="3571920" cy="2635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39"/>
          <p:cNvSpPr/>
          <p:nvPr/>
        </p:nvSpPr>
        <p:spPr>
          <a:xfrm>
            <a:off x="3917880" y="3000240"/>
            <a:ext cx="1533600" cy="18576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45"/>
          <p:cNvSpPr/>
          <p:nvPr/>
        </p:nvSpPr>
        <p:spPr>
          <a:xfrm flipH="1">
            <a:off x="3785760" y="2692440"/>
            <a:ext cx="1785960" cy="2000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接连接符 54"/>
          <p:cNvSpPr/>
          <p:nvPr/>
        </p:nvSpPr>
        <p:spPr>
          <a:xfrm>
            <a:off x="4191840" y="2786040"/>
            <a:ext cx="785880" cy="207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接连接符 59"/>
          <p:cNvSpPr/>
          <p:nvPr/>
        </p:nvSpPr>
        <p:spPr>
          <a:xfrm flipH="1">
            <a:off x="4466880" y="2643120"/>
            <a:ext cx="214200" cy="228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143080" y="5643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一点，可以画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无数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7"/>
          <p:cNvSpPr/>
          <p:nvPr/>
        </p:nvSpPr>
        <p:spPr>
          <a:xfrm>
            <a:off x="6357960" y="164304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几条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7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同侧圆角矩形 19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同侧圆角矩形 20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2" descr="P-055"/>
          <p:cNvPicPr/>
          <p:nvPr/>
        </p:nvPicPr>
        <p:blipFill>
          <a:blip r:embed="rId1"/>
          <a:stretch/>
        </p:blipFill>
        <p:spPr>
          <a:xfrm>
            <a:off x="285840" y="1571760"/>
            <a:ext cx="1568520" cy="15364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7"/>
          <p:cNvSpPr/>
          <p:nvPr/>
        </p:nvSpPr>
        <p:spPr>
          <a:xfrm>
            <a:off x="2643120" y="1279440"/>
            <a:ext cx="56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两点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能画直线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对角圆角矩形 25"/>
          <p:cNvSpPr/>
          <p:nvPr/>
        </p:nvSpPr>
        <p:spPr>
          <a:xfrm>
            <a:off x="2143080" y="2500200"/>
            <a:ext cx="5740560" cy="2928960"/>
          </a:xfrm>
          <a:custGeom>
            <a:avLst/>
            <a:gdLst/>
            <a:ahLst/>
            <a:rect l="l" t="t" r="r" b="b"/>
            <a:pathLst>
              <a:path w="5740400" h="2928937">
                <a:moveTo>
                  <a:pt x="488166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440771"/>
                </a:lnTo>
                <a:cubicBezTo>
                  <a:pt x="5740400" y="2710378"/>
                  <a:pt x="5521841" y="2928937"/>
                  <a:pt x="5252234" y="2928937"/>
                </a:cubicBezTo>
                <a:lnTo>
                  <a:pt x="0" y="2928937"/>
                </a:lnTo>
                <a:lnTo>
                  <a:pt x="0" y="2928937"/>
                </a:lnTo>
                <a:lnTo>
                  <a:pt x="0" y="488166"/>
                </a:lnTo>
                <a:cubicBezTo>
                  <a:pt x="0" y="218559"/>
                  <a:pt x="218559" y="0"/>
                  <a:pt x="488166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椭圆 27"/>
          <p:cNvSpPr/>
          <p:nvPr/>
        </p:nvSpPr>
        <p:spPr>
          <a:xfrm>
            <a:off x="3714840" y="350028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8"/>
          <p:cNvSpPr/>
          <p:nvPr/>
        </p:nvSpPr>
        <p:spPr>
          <a:xfrm>
            <a:off x="3500280" y="3857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2143080" y="5643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两点，只能画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椭圆 14"/>
          <p:cNvSpPr/>
          <p:nvPr/>
        </p:nvSpPr>
        <p:spPr>
          <a:xfrm>
            <a:off x="6000840" y="397656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5857920" y="4119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16"/>
          <p:cNvSpPr/>
          <p:nvPr/>
        </p:nvSpPr>
        <p:spPr>
          <a:xfrm>
            <a:off x="2643120" y="3335400"/>
            <a:ext cx="4500720" cy="928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2736720" y="1863720"/>
            <a:ext cx="23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画几条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81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同侧圆角矩形 19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同侧圆角矩形 20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对角圆角矩形 16"/>
          <p:cNvSpPr/>
          <p:nvPr/>
        </p:nvSpPr>
        <p:spPr>
          <a:xfrm>
            <a:off x="2071800" y="2500200"/>
            <a:ext cx="5740200" cy="3143520"/>
          </a:xfrm>
          <a:custGeom>
            <a:avLst/>
            <a:gdLst/>
            <a:ahLst/>
            <a:rect l="l" t="t" r="r" b="b"/>
            <a:pathLst>
              <a:path w="5740400" h="3143250">
                <a:moveTo>
                  <a:pt x="523885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619365"/>
                </a:lnTo>
                <a:cubicBezTo>
                  <a:pt x="5740400" y="2908699"/>
                  <a:pt x="5505849" y="3143250"/>
                  <a:pt x="5216515" y="3143250"/>
                </a:cubicBezTo>
                <a:lnTo>
                  <a:pt x="0" y="3143250"/>
                </a:lnTo>
                <a:lnTo>
                  <a:pt x="0" y="3143250"/>
                </a:lnTo>
                <a:lnTo>
                  <a:pt x="0" y="523885"/>
                </a:lnTo>
                <a:cubicBezTo>
                  <a:pt x="0" y="234551"/>
                  <a:pt x="234551" y="0"/>
                  <a:pt x="523885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2" descr="P-055"/>
          <p:cNvPicPr/>
          <p:nvPr/>
        </p:nvPicPr>
        <p:blipFill>
          <a:blip r:embed="rId1"/>
          <a:stretch/>
        </p:blipFill>
        <p:spPr>
          <a:xfrm>
            <a:off x="622440" y="1643040"/>
            <a:ext cx="156816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12"/>
          <p:cNvGrpSpPr/>
          <p:nvPr/>
        </p:nvGrpSpPr>
        <p:grpSpPr>
          <a:xfrm>
            <a:off x="3143160" y="3772080"/>
            <a:ext cx="3218040" cy="150480"/>
            <a:chOff x="3143160" y="3772080"/>
            <a:chExt cx="3218040" cy="150480"/>
          </a:xfrm>
        </p:grpSpPr>
        <p:sp>
          <p:nvSpPr>
            <p:cNvPr id="187" name="直接连接符 21"/>
            <p:cNvSpPr/>
            <p:nvPr/>
          </p:nvSpPr>
          <p:spPr>
            <a:xfrm flipV="1">
              <a:off x="3159720" y="3843720"/>
              <a:ext cx="3061440" cy="9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8" name="组合 26" descr=""/>
            <p:cNvPicPr/>
            <p:nvPr/>
          </p:nvPicPr>
          <p:blipFill>
            <a:blip r:embed="rId2"/>
            <a:stretch/>
          </p:blipFill>
          <p:spPr>
            <a:xfrm>
              <a:off x="3143160" y="3772080"/>
              <a:ext cx="3218040" cy="15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Box 17"/>
          <p:cNvSpPr/>
          <p:nvPr/>
        </p:nvSpPr>
        <p:spPr>
          <a:xfrm>
            <a:off x="2357280" y="164304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一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线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2725560" y="3933720"/>
            <a:ext cx="4489560" cy="781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22"/>
          <p:cNvSpPr/>
          <p:nvPr/>
        </p:nvSpPr>
        <p:spPr>
          <a:xfrm>
            <a:off x="3857760" y="31478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298800" y="5445000"/>
            <a:ext cx="5292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同侧圆角矩形 18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同侧圆角矩形 1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6"/>
          <p:cNvSpPr/>
          <p:nvPr/>
        </p:nvSpPr>
        <p:spPr>
          <a:xfrm>
            <a:off x="1042920" y="20559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下图中有（    ）条射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02" name="JJA81.eps" descr="id:2147505511;FounderCES"/>
          <p:cNvPicPr/>
          <p:nvPr/>
        </p:nvPicPr>
        <p:blipFill>
          <a:blip r:embed="rId3"/>
          <a:stretch/>
        </p:blipFill>
        <p:spPr>
          <a:xfrm>
            <a:off x="3635280" y="3157560"/>
            <a:ext cx="150516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4"/>
          <p:cNvSpPr/>
          <p:nvPr/>
        </p:nvSpPr>
        <p:spPr>
          <a:xfrm>
            <a:off x="1468440" y="251136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是可以向两端无限延伸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图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直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上两点和它们之间的部分就是线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图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线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条直线上的点都可以向两个方向延伸组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每条直线上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每条直线上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直线上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3"/>
          <p:cNvSpPr/>
          <p:nvPr/>
        </p:nvSpPr>
        <p:spPr>
          <a:xfrm>
            <a:off x="1503360" y="2816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下图中有（    ）条射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5440" y="27702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JJA81.eps" descr="id:2147505511;FounderCES"/>
          <p:cNvPicPr/>
          <p:nvPr/>
        </p:nvPicPr>
        <p:blipFill>
          <a:blip r:embed="rId3"/>
          <a:stretch/>
        </p:blipFill>
        <p:spPr>
          <a:xfrm>
            <a:off x="4095720" y="3917880"/>
            <a:ext cx="1505160" cy="14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1"/>
          <p:cNvSpPr/>
          <p:nvPr/>
        </p:nvSpPr>
        <p:spPr>
          <a:xfrm>
            <a:off x="1116000" y="180972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直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22" name="L039.eps" descr="id:2147501424;FounderCES"/>
          <p:cNvPicPr/>
          <p:nvPr/>
        </p:nvPicPr>
        <p:blipFill>
          <a:blip r:embed="rId3"/>
          <a:stretch/>
        </p:blipFill>
        <p:spPr>
          <a:xfrm>
            <a:off x="2660760" y="3429000"/>
            <a:ext cx="369576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4"/>
          <p:cNvSpPr/>
          <p:nvPr/>
        </p:nvSpPr>
        <p:spPr>
          <a:xfrm>
            <a:off x="1468440" y="235908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可以看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的点都在同一条直线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图中只有一条直线。图中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每个点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有向左、向右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。直线上两点间的一段是一条线段。以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为左端点的线段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为左端点的线段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为左端点的线段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图中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+2+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1461960" y="278136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直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L039.eps" descr="id:2147501424;FounderCES"/>
          <p:cNvPicPr/>
          <p:nvPr/>
        </p:nvPicPr>
        <p:blipFill>
          <a:blip r:embed="rId3"/>
          <a:stretch/>
        </p:blipFill>
        <p:spPr>
          <a:xfrm>
            <a:off x="3006720" y="4398840"/>
            <a:ext cx="3695760" cy="879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2"/>
          <p:cNvSpPr/>
          <p:nvPr/>
        </p:nvSpPr>
        <p:spPr>
          <a:xfrm>
            <a:off x="4565520" y="2735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430360" y="33195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4849920" y="33242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43" name="矩形 1"/>
          <p:cNvSpPr/>
          <p:nvPr/>
        </p:nvSpPr>
        <p:spPr>
          <a:xfrm rot="18297600">
            <a:off x="6889680" y="4105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TextBox 13"/>
          <p:cNvSpPr/>
          <p:nvPr/>
        </p:nvSpPr>
        <p:spPr>
          <a:xfrm>
            <a:off x="1590840" y="205272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。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5"/>
          <p:cNvSpPr/>
          <p:nvPr/>
        </p:nvSpPr>
        <p:spPr>
          <a:xfrm>
            <a:off x="3851280" y="207324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50" name="L035.eps" descr="id:2147501322;FounderCES"/>
          <p:cNvPicPr/>
          <p:nvPr/>
        </p:nvPicPr>
        <p:blipFill>
          <a:blip r:embed="rId4"/>
          <a:stretch/>
        </p:blipFill>
        <p:spPr>
          <a:xfrm>
            <a:off x="2160720" y="3357720"/>
            <a:ext cx="4579920" cy="774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89000" y="32479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按要求画出指定长度的线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认识线段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射线和直线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它们之间的联系与区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114560" y="41464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数与生活的联系，培养初步的空间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58" name="矩形 19"/>
          <p:cNvSpPr/>
          <p:nvPr/>
        </p:nvSpPr>
        <p:spPr>
          <a:xfrm>
            <a:off x="1187280" y="25239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数射线的方法不对。以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端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向左和向右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端点也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。端点不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射线就不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端点相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不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是不同的射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6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15"/>
          <p:cNvSpPr/>
          <p:nvPr/>
        </p:nvSpPr>
        <p:spPr>
          <a:xfrm rot="18297600">
            <a:off x="6889680" y="5011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20"/>
          <p:cNvSpPr/>
          <p:nvPr/>
        </p:nvSpPr>
        <p:spPr>
          <a:xfrm rot="18297600">
            <a:off x="6901920" y="2746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对象 25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对象 32"/>
              <p:cNvSpPr txBox="1"/>
              <p:nvPr/>
            </p:nvSpPr>
            <p:spPr>
              <a:xfrm>
                <a:off x="2689200" y="4546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0" name="TextBox 17"/>
          <p:cNvSpPr/>
          <p:nvPr/>
        </p:nvSpPr>
        <p:spPr>
          <a:xfrm>
            <a:off x="1590840" y="205272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。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8"/>
          <p:cNvSpPr/>
          <p:nvPr/>
        </p:nvSpPr>
        <p:spPr>
          <a:xfrm>
            <a:off x="3851280" y="207324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L035.eps" descr="id:2147501322;FounderCES"/>
          <p:cNvPicPr/>
          <p:nvPr/>
        </p:nvPicPr>
        <p:blipFill>
          <a:blip r:embed="rId3"/>
          <a:stretch/>
        </p:blipFill>
        <p:spPr>
          <a:xfrm>
            <a:off x="2160720" y="3357720"/>
            <a:ext cx="4579920" cy="7747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1"/>
          <p:cNvSpPr/>
          <p:nvPr/>
        </p:nvSpPr>
        <p:spPr>
          <a:xfrm>
            <a:off x="1328760" y="4941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射线。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2"/>
          <p:cNvSpPr/>
          <p:nvPr/>
        </p:nvSpPr>
        <p:spPr>
          <a:xfrm>
            <a:off x="3587760" y="494172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同侧圆角矩形 9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241280" y="176544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是线段，哪些是射线，哪些是直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036800" y="3389040"/>
            <a:ext cx="93636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7"/>
          <p:cNvSpPr/>
          <p:nvPr/>
        </p:nvSpPr>
        <p:spPr>
          <a:xfrm rot="11734800">
            <a:off x="2560680" y="3160080"/>
            <a:ext cx="2232000" cy="8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406" h="521">
                <a:moveTo>
                  <a:pt x="0" y="408"/>
                </a:moveTo>
                <a:cubicBezTo>
                  <a:pt x="268" y="464"/>
                  <a:pt x="537" y="521"/>
                  <a:pt x="771" y="453"/>
                </a:cubicBezTo>
                <a:cubicBezTo>
                  <a:pt x="1005" y="385"/>
                  <a:pt x="1300" y="75"/>
                  <a:pt x="1406" y="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6218280" y="3541680"/>
            <a:ext cx="0" cy="1440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7294680" y="3295800"/>
            <a:ext cx="1439640" cy="1079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2103480" y="4836960"/>
            <a:ext cx="1440000" cy="5637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907" h="355">
                <a:moveTo>
                  <a:pt x="0" y="226"/>
                </a:moveTo>
                <a:cubicBezTo>
                  <a:pt x="83" y="290"/>
                  <a:pt x="166" y="355"/>
                  <a:pt x="317" y="317"/>
                </a:cubicBezTo>
                <a:cubicBezTo>
                  <a:pt x="468" y="279"/>
                  <a:pt x="809" y="53"/>
                  <a:pt x="907" y="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03280" y="33130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3326760" y="338940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5460480" y="338940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7517880" y="377028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2412360" y="559908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16"/>
          <p:cNvSpPr/>
          <p:nvPr/>
        </p:nvSpPr>
        <p:spPr>
          <a:xfrm>
            <a:off x="884160" y="43038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Oval 17"/>
          <p:cNvSpPr/>
          <p:nvPr/>
        </p:nvSpPr>
        <p:spPr>
          <a:xfrm>
            <a:off x="2408400" y="3618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4770360" y="3618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6141960" y="4913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6141960" y="346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同侧圆角矩形 9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68080" y="2521080"/>
            <a:ext cx="51404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一数下列图形中（    ）条线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98" name="JJA84.eps" descr="id:2147505613;FounderCES"/>
          <p:cNvPicPr/>
          <p:nvPr/>
        </p:nvPicPr>
        <p:blipFill>
          <a:blip r:embed="rId2"/>
          <a:stretch/>
        </p:blipFill>
        <p:spPr>
          <a:xfrm>
            <a:off x="2468520" y="4005360"/>
            <a:ext cx="4638600" cy="747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9"/>
          <p:cNvSpPr/>
          <p:nvPr/>
        </p:nvSpPr>
        <p:spPr>
          <a:xfrm>
            <a:off x="5439960" y="242100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074600" y="1762200"/>
            <a:ext cx="4145040" cy="6426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他们的说法对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7" descr="tuzi1"/>
          <p:cNvPicPr/>
          <p:nvPr/>
        </p:nvPicPr>
        <p:blipFill>
          <a:blip r:embed="rId1"/>
          <a:stretch/>
        </p:blipFill>
        <p:spPr>
          <a:xfrm>
            <a:off x="7570800" y="3559320"/>
            <a:ext cx="1573200" cy="150336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2"/>
          <p:cNvGrpSpPr/>
          <p:nvPr/>
        </p:nvGrpSpPr>
        <p:grpSpPr>
          <a:xfrm>
            <a:off x="684360" y="3486240"/>
            <a:ext cx="4535280" cy="1225800"/>
            <a:chOff x="684360" y="3486240"/>
            <a:chExt cx="4535280" cy="1225800"/>
          </a:xfrm>
        </p:grpSpPr>
        <p:sp>
          <p:nvSpPr>
            <p:cNvPr id="306" name="AutoShape 10"/>
            <p:cNvSpPr/>
            <p:nvPr/>
          </p:nvSpPr>
          <p:spPr>
            <a:xfrm>
              <a:off x="684360" y="3486240"/>
              <a:ext cx="4535280" cy="1225800"/>
            </a:xfrm>
            <a:prstGeom prst="cloudCallout">
              <a:avLst>
                <a:gd name="adj1" fmla="val -33652"/>
                <a:gd name="adj2" fmla="val 61657"/>
              </a:avLst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1187280" y="3630600"/>
              <a:ext cx="374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、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两点可以画无数条直线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1343880" y="478296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14"/>
          <p:cNvGrpSpPr/>
          <p:nvPr/>
        </p:nvGrpSpPr>
        <p:grpSpPr>
          <a:xfrm>
            <a:off x="1979280" y="4854600"/>
            <a:ext cx="5687640" cy="1224000"/>
            <a:chOff x="1979280" y="4854600"/>
            <a:chExt cx="5687640" cy="1224000"/>
          </a:xfrm>
        </p:grpSpPr>
        <p:sp>
          <p:nvSpPr>
            <p:cNvPr id="310" name="AutoShape 15"/>
            <p:cNvSpPr/>
            <p:nvPr/>
          </p:nvSpPr>
          <p:spPr>
            <a:xfrm flipH="1">
              <a:off x="1978920" y="4854600"/>
              <a:ext cx="5687640" cy="1224000"/>
            </a:xfrm>
            <a:prstGeom prst="cloudCallout">
              <a:avLst>
                <a:gd name="adj1" fmla="val -39810"/>
                <a:gd name="adj2" fmla="val 68416"/>
              </a:avLst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16"/>
            <p:cNvSpPr/>
            <p:nvPr/>
          </p:nvSpPr>
          <p:spPr>
            <a:xfrm>
              <a:off x="3614760" y="4969080"/>
              <a:ext cx="2792880" cy="947160"/>
            </a:xfrm>
            <a:prstGeom prst="rect">
              <a:avLst/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线段有两上端点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射线只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端点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直线没有端点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Group 17"/>
          <p:cNvGrpSpPr/>
          <p:nvPr/>
        </p:nvGrpSpPr>
        <p:grpSpPr>
          <a:xfrm>
            <a:off x="3485520" y="2436840"/>
            <a:ext cx="4542480" cy="803520"/>
            <a:chOff x="3485520" y="2436840"/>
            <a:chExt cx="4542480" cy="803520"/>
          </a:xfrm>
        </p:grpSpPr>
        <p:sp>
          <p:nvSpPr>
            <p:cNvPr id="313" name="AutoShape 18"/>
            <p:cNvSpPr/>
            <p:nvPr/>
          </p:nvSpPr>
          <p:spPr>
            <a:xfrm flipH="1" rot="21531600">
              <a:off x="3492000" y="2478240"/>
              <a:ext cx="4175280" cy="720360"/>
            </a:xfrm>
            <a:prstGeom prst="cloudCallout">
              <a:avLst>
                <a:gd name="adj1" fmla="val -53689"/>
                <a:gd name="adj2" fmla="val 144930"/>
              </a:avLst>
            </a:prstGeom>
            <a:solidFill>
              <a:srgbClr val="f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 Box 19"/>
            <p:cNvSpPr/>
            <p:nvPr/>
          </p:nvSpPr>
          <p:spPr>
            <a:xfrm>
              <a:off x="3706920" y="2551320"/>
              <a:ext cx="43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条直线长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.5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Text Box 29"/>
          <p:cNvSpPr/>
          <p:nvPr/>
        </p:nvSpPr>
        <p:spPr>
          <a:xfrm>
            <a:off x="7629480" y="293040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7487640" y="53053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同侧圆角矩形 14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JJA90.eps" descr="id:2147505861;FounderCES"/>
          <p:cNvPicPr/>
          <p:nvPr/>
        </p:nvPicPr>
        <p:blipFill>
          <a:blip r:embed="rId1"/>
          <a:stretch/>
        </p:blipFill>
        <p:spPr>
          <a:xfrm>
            <a:off x="1835280" y="3141720"/>
            <a:ext cx="4751280" cy="20113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9"/>
          <p:cNvSpPr/>
          <p:nvPr/>
        </p:nvSpPr>
        <p:spPr>
          <a:xfrm>
            <a:off x="2154600" y="2417760"/>
            <a:ext cx="50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从家去学校走第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路最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5258520" y="2352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3" descr="F:\七彩课堂插图板式封面\排版用图标、页眉页脚\标题jpg\读读比比.jpg"/>
          <p:cNvPicPr/>
          <p:nvPr/>
        </p:nvPicPr>
        <p:blipFill>
          <a:blip r:embed="rId2"/>
          <a:srcRect l="15542" t="12956" r="0" b="0"/>
          <a:stretch/>
        </p:blipFill>
        <p:spPr>
          <a:xfrm>
            <a:off x="6415200" y="839880"/>
            <a:ext cx="2189160" cy="1577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325" name="同侧圆角矩形 13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776760" y="2301840"/>
            <a:ext cx="9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两组线段一样长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2563200" y="4430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一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5918040" y="4459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JJA93.eps" descr="id:2147505942;FounderCES"/>
          <p:cNvPicPr/>
          <p:nvPr/>
        </p:nvPicPr>
        <p:blipFill>
          <a:blip r:embed="rId2"/>
          <a:stretch/>
        </p:blipFill>
        <p:spPr>
          <a:xfrm>
            <a:off x="1739880" y="3284640"/>
            <a:ext cx="2286000" cy="771480"/>
          </a:xfrm>
          <a:prstGeom prst="rect">
            <a:avLst/>
          </a:prstGeom>
          <a:ln w="0">
            <a:noFill/>
          </a:ln>
        </p:spPr>
      </p:pic>
      <p:pic>
        <p:nvPicPr>
          <p:cNvPr id="331" name="JJA94.eps" descr="id:2147505949;FounderCES"/>
          <p:cNvPicPr/>
          <p:nvPr/>
        </p:nvPicPr>
        <p:blipFill>
          <a:blip r:embed="rId3"/>
          <a:stretch/>
        </p:blipFill>
        <p:spPr>
          <a:xfrm>
            <a:off x="5092560" y="3218040"/>
            <a:ext cx="2289240" cy="903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F:\七彩课堂插图板式封面\排版用图标、页眉页脚\标题jpg\读读比比.jpg"/>
          <p:cNvPicPr/>
          <p:nvPr/>
        </p:nvPicPr>
        <p:blipFill>
          <a:blip r:embed="rId4"/>
          <a:srcRect l="15542" t="12956" r="0" b="0"/>
          <a:stretch/>
        </p:blipFill>
        <p:spPr>
          <a:xfrm>
            <a:off x="6415200" y="839880"/>
            <a:ext cx="2189160" cy="1577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37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40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矩形 21"/>
          <p:cNvSpPr/>
          <p:nvPr/>
        </p:nvSpPr>
        <p:spPr>
          <a:xfrm>
            <a:off x="460440" y="3429000"/>
            <a:ext cx="8281800" cy="459720"/>
          </a:xfrm>
          <a:prstGeom prst="rect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线段有两个端点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度有限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能延伸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射线有一个端点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向一端无限延伸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线没有端点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向两端无限延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AutoShape 27"/>
          <p:cNvSpPr/>
          <p:nvPr/>
        </p:nvSpPr>
        <p:spPr>
          <a:xfrm>
            <a:off x="5872320" y="1771560"/>
            <a:ext cx="2627280" cy="595440"/>
          </a:xfrm>
          <a:prstGeom prst="wedgeRoundRectCallout">
            <a:avLst>
              <a:gd name="adj1" fmla="val -66013"/>
              <a:gd name="adj2" fmla="val 1893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线段可以度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1"/>
          <p:cNvSpPr/>
          <p:nvPr/>
        </p:nvSpPr>
        <p:spPr>
          <a:xfrm>
            <a:off x="468360" y="4437000"/>
            <a:ext cx="8280360" cy="459720"/>
          </a:xfrm>
          <a:prstGeom prst="rect">
            <a:avLst/>
          </a:prstGeom>
          <a:solidFill>
            <a:srgbClr val="00b0f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点之间的所有连线中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线段最短。两点之间线段的长度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叫做两点间的距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5"/>
          <p:cNvSpPr/>
          <p:nvPr/>
        </p:nvSpPr>
        <p:spPr>
          <a:xfrm>
            <a:off x="460440" y="5445000"/>
            <a:ext cx="8281800" cy="459720"/>
          </a:xfrm>
          <a:prstGeom prst="rect">
            <a:avLst/>
          </a:prstGeom>
          <a:solidFill>
            <a:srgbClr val="6dff44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3. </a:t>
            </a:r>
            <a:r>
              <a:rPr b="0" lang="zh-CN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线段的画法</a:t>
            </a:r>
            <a:r>
              <a:rPr b="0" lang="en-US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先点一个点</a:t>
            </a:r>
            <a:r>
              <a:rPr b="0" lang="en-US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以这个点为端点用直尺向另一个方向画指定长度的线</a:t>
            </a:r>
            <a:r>
              <a:rPr b="0" lang="en-US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558ed5"/>
                </a:solidFill>
                <a:latin typeface="华文新魏"/>
                <a:ea typeface="华文新魏"/>
              </a:rPr>
              <a:t>最后在终止处点出线段的另一个端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2" descr="P-055"/>
          <p:cNvPicPr/>
          <p:nvPr/>
        </p:nvPicPr>
        <p:blipFill>
          <a:blip r:embed="rId1"/>
          <a:stretch/>
        </p:blipFill>
        <p:spPr>
          <a:xfrm>
            <a:off x="285840" y="4643280"/>
            <a:ext cx="15685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6"/>
          <p:cNvGrpSpPr/>
          <p:nvPr/>
        </p:nvGrpSpPr>
        <p:grpSpPr>
          <a:xfrm>
            <a:off x="857160" y="1857240"/>
            <a:ext cx="3000600" cy="1643040"/>
            <a:chOff x="857160" y="1857240"/>
            <a:chExt cx="3000600" cy="1643040"/>
          </a:xfrm>
        </p:grpSpPr>
        <p:sp>
          <p:nvSpPr>
            <p:cNvPr id="59" name="对角圆角矩形 18"/>
            <p:cNvSpPr/>
            <p:nvPr/>
          </p:nvSpPr>
          <p:spPr>
            <a:xfrm>
              <a:off x="857160" y="1857240"/>
              <a:ext cx="3000600" cy="1643040"/>
            </a:xfrm>
            <a:custGeom>
              <a:avLst/>
              <a:gdLst/>
              <a:ahLst/>
              <a:rect l="l" t="t" r="r" b="b"/>
              <a:pathLst>
                <a:path w="3000375" h="1643063">
                  <a:moveTo>
                    <a:pt x="273849" y="0"/>
                  </a:moveTo>
                  <a:lnTo>
                    <a:pt x="3000375" y="0"/>
                  </a:lnTo>
                  <a:lnTo>
                    <a:pt x="3000375" y="0"/>
                  </a:lnTo>
                  <a:lnTo>
                    <a:pt x="3000375" y="1369214"/>
                  </a:lnTo>
                  <a:cubicBezTo>
                    <a:pt x="3000375" y="1520457"/>
                    <a:pt x="2877769" y="1643063"/>
                    <a:pt x="2726526" y="1643063"/>
                  </a:cubicBezTo>
                  <a:lnTo>
                    <a:pt x="0" y="1643063"/>
                  </a:lnTo>
                  <a:lnTo>
                    <a:pt x="0" y="1643063"/>
                  </a:lnTo>
                  <a:lnTo>
                    <a:pt x="0" y="273849"/>
                  </a:lnTo>
                  <a:cubicBezTo>
                    <a:pt x="0" y="122606"/>
                    <a:pt x="122606" y="0"/>
                    <a:pt x="273849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Picture 14" descr=""/>
            <p:cNvPicPr/>
            <p:nvPr/>
          </p:nvPicPr>
          <p:blipFill>
            <a:blip r:embed="rId2"/>
            <a:stretch/>
          </p:blipFill>
          <p:spPr>
            <a:xfrm>
              <a:off x="1500120" y="1999800"/>
              <a:ext cx="1571760" cy="136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Box 19"/>
          <p:cNvSpPr/>
          <p:nvPr/>
        </p:nvSpPr>
        <p:spPr>
          <a:xfrm>
            <a:off x="2214720" y="43578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线 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组合 27" descr=""/>
          <p:cNvPicPr/>
          <p:nvPr/>
        </p:nvPicPr>
        <p:blipFill>
          <a:blip r:embed="rId3"/>
          <a:stretch/>
        </p:blipFill>
        <p:spPr>
          <a:xfrm>
            <a:off x="4133880" y="4486320"/>
            <a:ext cx="3095640" cy="189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8"/>
          <p:cNvSpPr/>
          <p:nvPr/>
        </p:nvSpPr>
        <p:spPr>
          <a:xfrm>
            <a:off x="3929040" y="46432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6929280" y="464328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3857760" y="53578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：线段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7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同侧圆角矩形 24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同侧圆角矩形 2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C:\Users\Administrator\AppData\Roaming\Tencent\Users\781547643\QQ\WinTemp\RichOle\5KXA]Q_P2O@][[~HY7WBBLV.png"/>
          <p:cNvPicPr/>
          <p:nvPr/>
        </p:nvPicPr>
        <p:blipFill>
          <a:blip r:embed="rId4"/>
          <a:stretch/>
        </p:blipFill>
        <p:spPr>
          <a:xfrm>
            <a:off x="4500720" y="1708200"/>
            <a:ext cx="36478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对角圆角矩形 15"/>
          <p:cNvSpPr/>
          <p:nvPr/>
        </p:nvSpPr>
        <p:spPr>
          <a:xfrm>
            <a:off x="2071800" y="2500200"/>
            <a:ext cx="5740200" cy="3143520"/>
          </a:xfrm>
          <a:custGeom>
            <a:avLst/>
            <a:gdLst/>
            <a:ahLst/>
            <a:rect l="l" t="t" r="r" b="b"/>
            <a:pathLst>
              <a:path w="5740400" h="3143250">
                <a:moveTo>
                  <a:pt x="523885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619365"/>
                </a:lnTo>
                <a:cubicBezTo>
                  <a:pt x="5740400" y="2908699"/>
                  <a:pt x="5505849" y="3143250"/>
                  <a:pt x="5216515" y="3143250"/>
                </a:cubicBezTo>
                <a:lnTo>
                  <a:pt x="0" y="3143250"/>
                </a:lnTo>
                <a:lnTo>
                  <a:pt x="0" y="3143250"/>
                </a:lnTo>
                <a:lnTo>
                  <a:pt x="0" y="523885"/>
                </a:lnTo>
                <a:cubicBezTo>
                  <a:pt x="0" y="234551"/>
                  <a:pt x="234551" y="0"/>
                  <a:pt x="523885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2" descr="P-055"/>
          <p:cNvPicPr/>
          <p:nvPr/>
        </p:nvPicPr>
        <p:blipFill>
          <a:blip r:embed="rId1"/>
          <a:stretch/>
        </p:blipFill>
        <p:spPr>
          <a:xfrm>
            <a:off x="504720" y="1731960"/>
            <a:ext cx="1568520" cy="153684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9"/>
          <p:cNvSpPr/>
          <p:nvPr/>
        </p:nvSpPr>
        <p:spPr>
          <a:xfrm>
            <a:off x="3429000" y="3929040"/>
            <a:ext cx="30002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0"/>
          <p:cNvSpPr/>
          <p:nvPr/>
        </p:nvSpPr>
        <p:spPr>
          <a:xfrm>
            <a:off x="3398760" y="386712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11"/>
          <p:cNvSpPr/>
          <p:nvPr/>
        </p:nvSpPr>
        <p:spPr>
          <a:xfrm>
            <a:off x="5508720" y="385776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3357720" y="4429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射 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8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同侧圆角矩形 1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同侧圆角矩形 1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对角圆角矩形 15"/>
          <p:cNvSpPr/>
          <p:nvPr/>
        </p:nvSpPr>
        <p:spPr>
          <a:xfrm>
            <a:off x="1214280" y="1714680"/>
            <a:ext cx="2928960" cy="1785600"/>
          </a:xfrm>
          <a:custGeom>
            <a:avLst/>
            <a:gdLst/>
            <a:ahLst/>
            <a:rect l="l" t="t" r="r" b="b"/>
            <a:pathLst>
              <a:path w="2928937" h="1785938">
                <a:moveTo>
                  <a:pt x="297662" y="0"/>
                </a:moveTo>
                <a:lnTo>
                  <a:pt x="2928937" y="0"/>
                </a:lnTo>
                <a:lnTo>
                  <a:pt x="2928937" y="0"/>
                </a:lnTo>
                <a:lnTo>
                  <a:pt x="2928937" y="1488276"/>
                </a:lnTo>
                <a:cubicBezTo>
                  <a:pt x="2928937" y="1652670"/>
                  <a:pt x="2795669" y="1785938"/>
                  <a:pt x="2631275" y="1785938"/>
                </a:cubicBezTo>
                <a:lnTo>
                  <a:pt x="0" y="1785938"/>
                </a:lnTo>
                <a:lnTo>
                  <a:pt x="0" y="1785938"/>
                </a:lnTo>
                <a:lnTo>
                  <a:pt x="0" y="297662"/>
                </a:lnTo>
                <a:cubicBezTo>
                  <a:pt x="0" y="133268"/>
                  <a:pt x="133268" y="0"/>
                  <a:pt x="297662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2" descr="P-055"/>
          <p:cNvPicPr/>
          <p:nvPr/>
        </p:nvPicPr>
        <p:blipFill>
          <a:blip r:embed="rId1"/>
          <a:stretch/>
        </p:blipFill>
        <p:spPr>
          <a:xfrm>
            <a:off x="285840" y="4643280"/>
            <a:ext cx="1568520" cy="1536840"/>
          </a:xfrm>
          <a:prstGeom prst="rect">
            <a:avLst/>
          </a:prstGeom>
          <a:ln w="0">
            <a:noFill/>
          </a:ln>
        </p:spPr>
      </p:pic>
      <p:sp>
        <p:nvSpPr>
          <p:cNvPr id="84" name="对角圆角矩形 18"/>
          <p:cNvSpPr/>
          <p:nvPr/>
        </p:nvSpPr>
        <p:spPr>
          <a:xfrm>
            <a:off x="5143680" y="1714680"/>
            <a:ext cx="3000240" cy="1643040"/>
          </a:xfrm>
          <a:custGeom>
            <a:avLst/>
            <a:gdLst/>
            <a:ahLst/>
            <a:rect l="l" t="t" r="r" b="b"/>
            <a:pathLst>
              <a:path w="3000375" h="1643063">
                <a:moveTo>
                  <a:pt x="273849" y="0"/>
                </a:moveTo>
                <a:lnTo>
                  <a:pt x="3000375" y="0"/>
                </a:lnTo>
                <a:lnTo>
                  <a:pt x="3000375" y="0"/>
                </a:lnTo>
                <a:lnTo>
                  <a:pt x="3000375" y="1369214"/>
                </a:lnTo>
                <a:cubicBezTo>
                  <a:pt x="3000375" y="1520457"/>
                  <a:pt x="2877769" y="1643063"/>
                  <a:pt x="2726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对角圆角矩形 17"/>
          <p:cNvSpPr/>
          <p:nvPr/>
        </p:nvSpPr>
        <p:spPr>
          <a:xfrm>
            <a:off x="2643120" y="4357800"/>
            <a:ext cx="3000600" cy="1643040"/>
          </a:xfrm>
          <a:custGeom>
            <a:avLst/>
            <a:gdLst/>
            <a:ahLst/>
            <a:rect l="l" t="t" r="r" b="b"/>
            <a:pathLst>
              <a:path w="3000375" h="1643062">
                <a:moveTo>
                  <a:pt x="273849" y="0"/>
                </a:moveTo>
                <a:lnTo>
                  <a:pt x="3000375" y="0"/>
                </a:lnTo>
                <a:lnTo>
                  <a:pt x="3000375" y="0"/>
                </a:lnTo>
                <a:lnTo>
                  <a:pt x="3000375" y="1369213"/>
                </a:lnTo>
                <a:cubicBezTo>
                  <a:pt x="3000375" y="1520456"/>
                  <a:pt x="2877769" y="1643062"/>
                  <a:pt x="2726526" y="1643062"/>
                </a:cubicBezTo>
                <a:lnTo>
                  <a:pt x="0" y="1643062"/>
                </a:lnTo>
                <a:lnTo>
                  <a:pt x="0" y="1643062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14680" y="1785960"/>
            <a:ext cx="183816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5500800" y="1785960"/>
            <a:ext cx="220968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3357720" y="4429080"/>
            <a:ext cx="1552320" cy="1542960"/>
          </a:xfrm>
          <a:prstGeom prst="rect">
            <a:avLst/>
          </a:prstGeom>
          <a:ln w="0">
            <a:noFill/>
          </a:ln>
        </p:spPr>
      </p:pic>
      <p:grpSp>
        <p:nvGrpSpPr>
          <p:cNvPr id="8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0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同侧圆角矩形 13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同侧圆角矩形 1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对角圆角矩形 15"/>
          <p:cNvSpPr/>
          <p:nvPr/>
        </p:nvSpPr>
        <p:spPr>
          <a:xfrm>
            <a:off x="2071800" y="2500200"/>
            <a:ext cx="5740200" cy="3143520"/>
          </a:xfrm>
          <a:custGeom>
            <a:avLst/>
            <a:gdLst/>
            <a:ahLst/>
            <a:rect l="l" t="t" r="r" b="b"/>
            <a:pathLst>
              <a:path w="5740400" h="3143250">
                <a:moveTo>
                  <a:pt x="523885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619365"/>
                </a:lnTo>
                <a:cubicBezTo>
                  <a:pt x="5740400" y="2908699"/>
                  <a:pt x="5505849" y="3143250"/>
                  <a:pt x="5216515" y="3143250"/>
                </a:cubicBezTo>
                <a:lnTo>
                  <a:pt x="0" y="3143250"/>
                </a:lnTo>
                <a:lnTo>
                  <a:pt x="0" y="3143250"/>
                </a:lnTo>
                <a:lnTo>
                  <a:pt x="0" y="523885"/>
                </a:lnTo>
                <a:cubicBezTo>
                  <a:pt x="0" y="234551"/>
                  <a:pt x="234551" y="0"/>
                  <a:pt x="523885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2" descr="P-055"/>
          <p:cNvPicPr/>
          <p:nvPr/>
        </p:nvPicPr>
        <p:blipFill>
          <a:blip r:embed="rId1"/>
          <a:stretch/>
        </p:blipFill>
        <p:spPr>
          <a:xfrm>
            <a:off x="285840" y="1571760"/>
            <a:ext cx="1568520" cy="1536480"/>
          </a:xfrm>
          <a:prstGeom prst="rect">
            <a:avLst/>
          </a:prstGeom>
          <a:ln w="0">
            <a:noFill/>
          </a:ln>
        </p:spPr>
      </p:pic>
      <p:sp>
        <p:nvSpPr>
          <p:cNvPr id="95" name="直接连接符 21"/>
          <p:cNvSpPr/>
          <p:nvPr/>
        </p:nvSpPr>
        <p:spPr>
          <a:xfrm>
            <a:off x="3429000" y="3494160"/>
            <a:ext cx="300024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23"/>
          <p:cNvSpPr/>
          <p:nvPr/>
        </p:nvSpPr>
        <p:spPr>
          <a:xfrm>
            <a:off x="3409920" y="342108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3286080" y="36432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5380200" y="35798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3214800" y="4357800"/>
            <a:ext cx="33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：射线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1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同侧圆角矩形 14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同侧圆角矩形 1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17"/>
          <p:cNvSpPr/>
          <p:nvPr/>
        </p:nvSpPr>
        <p:spPr>
          <a:xfrm>
            <a:off x="5594400" y="343692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对角圆角矩形 63"/>
          <p:cNvSpPr/>
          <p:nvPr/>
        </p:nvSpPr>
        <p:spPr>
          <a:xfrm>
            <a:off x="2071800" y="2500200"/>
            <a:ext cx="5740200" cy="3143520"/>
          </a:xfrm>
          <a:custGeom>
            <a:avLst/>
            <a:gdLst/>
            <a:ahLst/>
            <a:rect l="l" t="t" r="r" b="b"/>
            <a:pathLst>
              <a:path w="5740400" h="3143250">
                <a:moveTo>
                  <a:pt x="523885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619365"/>
                </a:lnTo>
                <a:cubicBezTo>
                  <a:pt x="5740400" y="2908699"/>
                  <a:pt x="5505849" y="3143250"/>
                  <a:pt x="5216515" y="3143250"/>
                </a:cubicBezTo>
                <a:lnTo>
                  <a:pt x="0" y="3143250"/>
                </a:lnTo>
                <a:lnTo>
                  <a:pt x="0" y="3143250"/>
                </a:lnTo>
                <a:lnTo>
                  <a:pt x="0" y="523885"/>
                </a:lnTo>
                <a:cubicBezTo>
                  <a:pt x="0" y="234551"/>
                  <a:pt x="234551" y="0"/>
                  <a:pt x="523885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2" descr="P-055"/>
          <p:cNvPicPr/>
          <p:nvPr/>
        </p:nvPicPr>
        <p:blipFill>
          <a:blip r:embed="rId1"/>
          <a:stretch/>
        </p:blipFill>
        <p:spPr>
          <a:xfrm>
            <a:off x="552600" y="1847880"/>
            <a:ext cx="1568160" cy="15368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7"/>
          <p:cNvSpPr/>
          <p:nvPr/>
        </p:nvSpPr>
        <p:spPr>
          <a:xfrm>
            <a:off x="2236680" y="1357200"/>
            <a:ext cx="63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从</a:t>
            </a:r>
            <a:r>
              <a:rPr b="1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出发画一条射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2000160" y="19288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能画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4357800" y="192888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有什么发现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21"/>
          <p:cNvSpPr/>
          <p:nvPr/>
        </p:nvSpPr>
        <p:spPr>
          <a:xfrm flipV="1">
            <a:off x="5072040" y="3857760"/>
            <a:ext cx="2428920" cy="71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23"/>
          <p:cNvSpPr/>
          <p:nvPr/>
        </p:nvSpPr>
        <p:spPr>
          <a:xfrm>
            <a:off x="5000760" y="385776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4500720" y="40006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接连接符 17"/>
          <p:cNvSpPr/>
          <p:nvPr/>
        </p:nvSpPr>
        <p:spPr>
          <a:xfrm flipV="1">
            <a:off x="5082480" y="3132000"/>
            <a:ext cx="1979640" cy="765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接连接符 20"/>
          <p:cNvSpPr/>
          <p:nvPr/>
        </p:nvSpPr>
        <p:spPr>
          <a:xfrm flipV="1">
            <a:off x="5000760" y="3071880"/>
            <a:ext cx="877680" cy="8776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26"/>
          <p:cNvSpPr/>
          <p:nvPr/>
        </p:nvSpPr>
        <p:spPr>
          <a:xfrm flipV="1">
            <a:off x="5056920" y="2943000"/>
            <a:ext cx="357480" cy="9745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34"/>
          <p:cNvSpPr/>
          <p:nvPr/>
        </p:nvSpPr>
        <p:spPr>
          <a:xfrm flipH="1" flipV="1">
            <a:off x="4642920" y="3142800"/>
            <a:ext cx="428760" cy="8305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36"/>
          <p:cNvSpPr/>
          <p:nvPr/>
        </p:nvSpPr>
        <p:spPr>
          <a:xfrm flipH="1" flipV="1">
            <a:off x="4192200" y="3384720"/>
            <a:ext cx="857160" cy="5443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38"/>
          <p:cNvSpPr/>
          <p:nvPr/>
        </p:nvSpPr>
        <p:spPr>
          <a:xfrm flipV="1">
            <a:off x="3643200" y="3928680"/>
            <a:ext cx="1500480" cy="142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41"/>
          <p:cNvSpPr/>
          <p:nvPr/>
        </p:nvSpPr>
        <p:spPr>
          <a:xfrm flipV="1">
            <a:off x="3857760" y="3929040"/>
            <a:ext cx="1214280" cy="642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43"/>
          <p:cNvSpPr/>
          <p:nvPr/>
        </p:nvSpPr>
        <p:spPr>
          <a:xfrm flipH="1">
            <a:off x="4786200" y="3929040"/>
            <a:ext cx="285840" cy="7272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46"/>
          <p:cNvSpPr/>
          <p:nvPr/>
        </p:nvSpPr>
        <p:spPr>
          <a:xfrm>
            <a:off x="5072040" y="3929040"/>
            <a:ext cx="1857240" cy="2142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48"/>
          <p:cNvSpPr/>
          <p:nvPr/>
        </p:nvSpPr>
        <p:spPr>
          <a:xfrm>
            <a:off x="5072040" y="3929040"/>
            <a:ext cx="1428840" cy="5000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接连接符 55"/>
          <p:cNvSpPr/>
          <p:nvPr/>
        </p:nvSpPr>
        <p:spPr>
          <a:xfrm>
            <a:off x="5071320" y="3929040"/>
            <a:ext cx="490680" cy="847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57"/>
          <p:cNvSpPr/>
          <p:nvPr/>
        </p:nvSpPr>
        <p:spPr>
          <a:xfrm>
            <a:off x="5072040" y="3929040"/>
            <a:ext cx="1214640" cy="785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2214720" y="578628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一点出发可以画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无数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射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7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同侧圆角矩形 28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同侧圆角矩形 2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2" descr="P-055"/>
          <p:cNvPicPr/>
          <p:nvPr/>
        </p:nvPicPr>
        <p:blipFill>
          <a:blip r:embed="rId1"/>
          <a:stretch/>
        </p:blipFill>
        <p:spPr>
          <a:xfrm>
            <a:off x="285840" y="1571760"/>
            <a:ext cx="1568520" cy="1536480"/>
          </a:xfrm>
          <a:prstGeom prst="rect">
            <a:avLst/>
          </a:prstGeom>
          <a:ln w="0">
            <a:noFill/>
          </a:ln>
        </p:spPr>
      </p:pic>
      <p:sp>
        <p:nvSpPr>
          <p:cNvPr id="131" name="对角圆角矩形 8"/>
          <p:cNvSpPr/>
          <p:nvPr/>
        </p:nvSpPr>
        <p:spPr>
          <a:xfrm>
            <a:off x="2071800" y="2500200"/>
            <a:ext cx="5740200" cy="3143520"/>
          </a:xfrm>
          <a:custGeom>
            <a:avLst/>
            <a:gdLst/>
            <a:ahLst/>
            <a:rect l="l" t="t" r="r" b="b"/>
            <a:pathLst>
              <a:path w="5740400" h="3143250">
                <a:moveTo>
                  <a:pt x="523885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619365"/>
                </a:lnTo>
                <a:cubicBezTo>
                  <a:pt x="5740400" y="2908699"/>
                  <a:pt x="5505849" y="3143250"/>
                  <a:pt x="5216515" y="3143250"/>
                </a:cubicBezTo>
                <a:lnTo>
                  <a:pt x="0" y="3143250"/>
                </a:lnTo>
                <a:lnTo>
                  <a:pt x="0" y="3143250"/>
                </a:lnTo>
                <a:lnTo>
                  <a:pt x="0" y="523885"/>
                </a:lnTo>
                <a:cubicBezTo>
                  <a:pt x="0" y="234551"/>
                  <a:pt x="234551" y="0"/>
                  <a:pt x="523885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9"/>
          <p:cNvSpPr/>
          <p:nvPr/>
        </p:nvSpPr>
        <p:spPr>
          <a:xfrm>
            <a:off x="3519360" y="3584520"/>
            <a:ext cx="300060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组合 26" descr=""/>
          <p:cNvPicPr/>
          <p:nvPr/>
        </p:nvPicPr>
        <p:blipFill>
          <a:blip r:embed="rId2"/>
          <a:stretch/>
        </p:blipFill>
        <p:spPr>
          <a:xfrm>
            <a:off x="3498840" y="3505320"/>
            <a:ext cx="30733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5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同侧圆角矩形 15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同侧圆角矩形 1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对角圆角矩形 15"/>
          <p:cNvSpPr/>
          <p:nvPr/>
        </p:nvSpPr>
        <p:spPr>
          <a:xfrm>
            <a:off x="2146320" y="2571840"/>
            <a:ext cx="5740560" cy="3143160"/>
          </a:xfrm>
          <a:custGeom>
            <a:avLst/>
            <a:gdLst/>
            <a:ahLst/>
            <a:rect l="l" t="t" r="r" b="b"/>
            <a:pathLst>
              <a:path w="5740400" h="3143250">
                <a:moveTo>
                  <a:pt x="523885" y="0"/>
                </a:moveTo>
                <a:lnTo>
                  <a:pt x="5740400" y="0"/>
                </a:lnTo>
                <a:lnTo>
                  <a:pt x="5740400" y="0"/>
                </a:lnTo>
                <a:lnTo>
                  <a:pt x="5740400" y="2619365"/>
                </a:lnTo>
                <a:cubicBezTo>
                  <a:pt x="5740400" y="2908699"/>
                  <a:pt x="5505849" y="3143250"/>
                  <a:pt x="5216515" y="3143250"/>
                </a:cubicBezTo>
                <a:lnTo>
                  <a:pt x="0" y="3143250"/>
                </a:lnTo>
                <a:lnTo>
                  <a:pt x="0" y="3143250"/>
                </a:lnTo>
                <a:lnTo>
                  <a:pt x="0" y="523885"/>
                </a:lnTo>
                <a:cubicBezTo>
                  <a:pt x="0" y="234551"/>
                  <a:pt x="234551" y="0"/>
                  <a:pt x="523885" y="0"/>
                </a:cubicBez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2" descr="P-055"/>
          <p:cNvPicPr/>
          <p:nvPr/>
        </p:nvPicPr>
        <p:blipFill>
          <a:blip r:embed="rId1"/>
          <a:stretch/>
        </p:blipFill>
        <p:spPr>
          <a:xfrm>
            <a:off x="285840" y="1571760"/>
            <a:ext cx="1568520" cy="153648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21"/>
          <p:cNvSpPr/>
          <p:nvPr/>
        </p:nvSpPr>
        <p:spPr>
          <a:xfrm>
            <a:off x="3000240" y="3571920"/>
            <a:ext cx="428652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椭圆 23"/>
          <p:cNvSpPr/>
          <p:nvPr/>
        </p:nvSpPr>
        <p:spPr>
          <a:xfrm>
            <a:off x="3500280" y="350028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椭圆 25"/>
          <p:cNvSpPr/>
          <p:nvPr/>
        </p:nvSpPr>
        <p:spPr>
          <a:xfrm>
            <a:off x="6429240" y="3481560"/>
            <a:ext cx="142920" cy="14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3278160" y="3711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6311880" y="37148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2857680" y="442908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： 直线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6786720" y="28576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3876840" y="500076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Vivaldi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9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同侧圆角矩形 1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同侧圆角矩形 1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05:40Z</dcterms:modified>
  <cp:revision>240</cp:revision>
  <dc:subject>www.xkb1.com</dc:subject>
  <dc:title>www.xkb1.com</dc:title>
</cp:coreProperties>
</file>